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Chimes.wav" ContentType="audio/x-wav"/>
  <Override PartName="/ppt/media/image8.png" ContentType="image/png"/>
  <Override PartName="/ppt/media/Laser.wav" ContentType="audio/x-wav"/>
  <Override PartName="/ppt/media/image9.wmf" ContentType="image/x-wmf"/>
  <Override PartName="/ppt/media/image7.png" ContentType="image/png"/>
  <Override PartName="/ppt/media/image1.wmf" ContentType="image/x-wmf"/>
  <Override PartName="/ppt/media/CashReg.wav" ContentType="audio/x-wav"/>
  <Override PartName="/ppt/media/image2.wmf" ContentType="image/x-wmf"/>
  <Override PartName="/ppt/media/image3.wmf" ContentType="image/x-wmf"/>
  <Override PartName="/ppt/media/image4.png" ContentType="image/png"/>
  <Override PartName="/ppt/media/image12.wmf" ContentType="image/x-wmf"/>
  <Override PartName="/ppt/media/GunShot.wav" ContentType="audio/x-wav"/>
  <Override PartName="/ppt/media/image6.png" ContentType="image/png"/>
  <Override PartName="/ppt/media/image10.wmf" ContentType="image/x-wmf"/>
  <Override PartName="/ppt/media/image5.png" ContentType="image/png"/>
  <Override PartName="/ppt/media/Explode.wav" ContentType="audio/x-wav"/>
  <Override PartName="/ppt/media/image13.wmf" ContentType="image/x-wmf"/>
  <Override PartName="/ppt/media/image11.png" ContentType="image/png"/>
  <Override PartName="/ppt/media/Ricochet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3525-8E20-4045-887E-89957440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D5C-1D91-4BB8-ADBF-013EB5A6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11F1-FE94-4E8A-9172-AC2DB54F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C8E1-4391-4396-AE79-7206845A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F31F-527A-408A-9544-4463ED5D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C175-F8DE-44FB-9249-2EF31095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4DB9-336D-4F1D-A572-E77ACDF8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0DD3-E349-46BB-8983-3EF1C520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1EDD-1C46-4937-9CDC-82D34326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8D6C-685F-468D-99B2-15A66B01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B442-8E0A-4B2F-B5BB-3BD97F3C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2278-98F0-4F51-AEFD-E264E952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8807-7ADD-4EEC-9531-3CCEFE06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AEE1-E99C-4C3B-AC9F-5DDCEAA7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53AF-845D-4053-ABD2-536BA442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6538-ED06-471A-A9D7-C0413C67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F08F-1CA6-4A5C-B8D2-6E032476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DD13E-A5CB-4431-B6AF-23F67F53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5707A-921F-4DD8-B446-91B4F7D0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94F0C-B227-4E83-ADEC-8EAEDA4B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04340-FC4D-4FB6-B136-99F50FC0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D70B4-F740-4CC1-BA1F-E80F9E84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F6CC-A0F7-4264-80C6-1C85B66D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A5922-7463-437B-8FBD-44E0A935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1633D-4DF6-4EA4-95FC-0E814122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94BA3-E67A-4FFA-B412-291DF546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02FC0-B28D-47E1-BB0D-71BC56BE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5E8C5-267E-4F15-AE42-410B2D82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B70E6-21AC-48E6-A0D8-26A78AC4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7BD94-8B95-4538-ACB5-B764FF27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646E1-2E8D-4F7A-A5AF-F52131BB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51A4D-FC7B-4CDD-BFB6-6890076F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94ACC-5FF8-4189-94A6-C5339E5D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566F-004A-47C4-A5FD-6E16DD0B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EEF14-5EA1-4464-A904-3B8F1920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E4F8A-E29D-42F7-A679-7FA2DA6B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B02BA-3700-466C-AC24-D962E794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9FE6B-7E10-41E5-A063-B4B46F1A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0DAAE-C938-4060-9814-FA390ACC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7DD86-18EC-47F7-AE4D-685D8FA0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06623-CFC5-4EDE-A962-525AD563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FA8D1-89A1-4327-A6F6-9A70ABED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C104B-8D3F-4F19-8198-7530AA4F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DD7E-B1C9-492D-AECF-70845BEB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B96F-0373-4BDF-B811-5C06AD48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2AF-3A50-475E-BCB6-1253C7F2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4C5-6CF9-4980-B9A6-EFB20204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CE36-4B67-490F-9DC6-E3FBC869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67B3-6DAD-40F0-BBCB-E212EB80577E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3194-BD9F-4460-8398-40EA0171059F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2BD4-B8F3-4801-A44B-E5F086A4EE2C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7E62-6617-4081-A7D8-6B1DC5F3B214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audio" Target="../media/Ricochet.wav"/><Relationship Id="rId7" Type="http://schemas.openxmlformats.org/officeDocument/2006/relationships/audio" Target="../media/GunShot.wav"/><Relationship Id="rId8" Type="http://schemas.openxmlformats.org/officeDocument/2006/relationships/audio" Target="../media/Explode.wav"/><Relationship Id="rId9" Type="http://schemas.openxmlformats.org/officeDocument/2006/relationships/audio" Target="../media/Laser.wav"/><Relationship Id="rId10" Type="http://schemas.openxmlformats.org/officeDocument/2006/relationships/audio" Target="../media/CashReg.wav"/><Relationship Id="rId1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…</a:t>
            </a: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the main purpose of a business is stated in a….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0" spc="-1" strike="noStrike">
                <a:solidFill>
                  <a:srgbClr val="404040"/>
                </a:solidFill>
                <a:latin typeface="Trebuchet MS"/>
              </a:rPr>
              <a:t>Mission statement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4" name="Object 4" descr=""/>
          <p:cNvPicPr/>
          <p:nvPr/>
        </p:nvPicPr>
        <p:blipFill>
          <a:blip r:embed="rId1"/>
          <a:stretch/>
        </p:blipFill>
        <p:spPr>
          <a:xfrm>
            <a:off x="2895480" y="3505320"/>
            <a:ext cx="3505320" cy="3082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Aims….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In business the main aims are usual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Survival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Profit maximisation 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Growth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Object 3" descr=""/>
          <p:cNvPicPr/>
          <p:nvPr/>
        </p:nvPicPr>
        <p:blipFill>
          <a:blip r:embed="rId1"/>
          <a:stretch/>
        </p:blipFill>
        <p:spPr>
          <a:xfrm>
            <a:off x="5292720" y="2492280"/>
            <a:ext cx="371484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Many businesses have some or all of the following aims….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making a profi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providing goods and services to the local community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surviv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expanding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maximising sale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improving quality of produc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improving quality of servic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providing a highly competitive servic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providing a charitable servic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providing a voluntary servic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being environmentally friendly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British Airways Ai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155700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“</a:t>
            </a: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Being the airline of first choice in key markets”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Object 4" descr=""/>
          <p:cNvPicPr/>
          <p:nvPr/>
        </p:nvPicPr>
        <p:blipFill>
          <a:blip r:embed="rId1"/>
          <a:stretch/>
        </p:blipFill>
        <p:spPr>
          <a:xfrm>
            <a:off x="2050920" y="4076640"/>
            <a:ext cx="3638520" cy="2428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Objective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49" name="Object 3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4191120" cy="3587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Objectives are measurable...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404040"/>
                </a:solidFill>
                <a:latin typeface="Trebuchet MS"/>
              </a:rPr>
              <a:t>a business needs to identify specific practical targets it needs to accomplish in order to achieve its aims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Object 4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2438280" cy="19926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5"/>
          <p:cNvSpPr/>
          <p:nvPr/>
        </p:nvSpPr>
        <p:spPr>
          <a:xfrm>
            <a:off x="914400" y="480060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These are called 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Objectives are quantified...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So that success can be easily measured.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Eg British Airways</a:t>
            </a: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could have an objective</a:t>
            </a: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 “</a:t>
            </a: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to increase sales of air tickets to business passengers by 5% a year in Europe”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blinds dir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5fcbef"/>
                </a:solidFill>
                <a:latin typeface="Trebuchet MS"/>
              </a:rPr>
              <a:t>Aims Vs Objectives</a:t>
            </a:r>
            <a:endParaRPr b="0" lang="en-US" sz="4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93280" y="2541600"/>
            <a:ext cx="3886200" cy="247176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Aims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are long te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more subjectiv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not easily measur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28880" y="2541600"/>
            <a:ext cx="3886200" cy="247176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Objectives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are short te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more objectiv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easily measur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600" spc="-1" strike="noStrike">
                <a:solidFill>
                  <a:srgbClr val="5fcbef"/>
                </a:solidFill>
                <a:latin typeface="Trebuchet MS"/>
              </a:rPr>
              <a:t>SMART</a:t>
            </a:r>
            <a:r>
              <a:rPr b="0" lang="en-GB" sz="54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en-GB" sz="6600" spc="-1" strike="noStrike">
                <a:solidFill>
                  <a:srgbClr val="5fcbef"/>
                </a:solidFill>
                <a:latin typeface="Trebuchet MS"/>
              </a:rPr>
              <a:t>OBJECTIVES</a:t>
            </a:r>
            <a:endParaRPr b="0" lang="en-US" sz="6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294920" y="2133720"/>
            <a:ext cx="6629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7f7f7f"/>
                </a:solidFill>
                <a:latin typeface="Trebuchet MS"/>
              </a:rPr>
              <a:t>          </a:t>
            </a:r>
            <a:r>
              <a:rPr b="0" lang="en-GB" sz="3300" spc="-1" strike="noStrike">
                <a:solidFill>
                  <a:srgbClr val="7f7f7f"/>
                </a:solidFill>
                <a:latin typeface="Trebuchet MS"/>
              </a:rPr>
              <a:t>Specific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            </a:t>
            </a: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Measurable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  </a:t>
            </a: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Agree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      </a:t>
            </a: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Realistic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                       </a:t>
            </a: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Time constrained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262" name="Object 5" descr=""/>
          <p:cNvPicPr/>
          <p:nvPr/>
        </p:nvPicPr>
        <p:blipFill>
          <a:blip r:embed="rId2"/>
          <a:stretch/>
        </p:blipFill>
        <p:spPr>
          <a:xfrm>
            <a:off x="2971800" y="342900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263" name="Object 6" descr=""/>
          <p:cNvPicPr/>
          <p:nvPr/>
        </p:nvPicPr>
        <p:blipFill>
          <a:blip r:embed="rId3"/>
          <a:stretch/>
        </p:blipFill>
        <p:spPr>
          <a:xfrm>
            <a:off x="2971800" y="4191120"/>
            <a:ext cx="685800" cy="587160"/>
          </a:xfrm>
          <a:prstGeom prst="rect">
            <a:avLst/>
          </a:prstGeom>
          <a:ln w="0">
            <a:noFill/>
          </a:ln>
        </p:spPr>
      </p:pic>
      <p:pic>
        <p:nvPicPr>
          <p:cNvPr id="264" name="Object 7" descr=""/>
          <p:cNvPicPr/>
          <p:nvPr/>
        </p:nvPicPr>
        <p:blipFill>
          <a:blip r:embed="rId4"/>
          <a:stretch/>
        </p:blipFill>
        <p:spPr>
          <a:xfrm>
            <a:off x="2971800" y="480060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265" name="Object 8" descr=""/>
          <p:cNvPicPr/>
          <p:nvPr/>
        </p:nvPicPr>
        <p:blipFill>
          <a:blip r:embed="rId5"/>
          <a:stretch/>
        </p:blipFill>
        <p:spPr>
          <a:xfrm>
            <a:off x="2971800" y="5486400"/>
            <a:ext cx="685800" cy="587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Mini Challeng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033200" y="1700280"/>
            <a:ext cx="6140520" cy="201600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rebuchet MS"/>
              </a:rPr>
              <a:t>Write aims and objectives for your mini challen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rebuchet MS"/>
              </a:rPr>
              <a:t>Write a mission statement for your compan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826920" y="4365720"/>
            <a:ext cx="6553440" cy="119124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REMEMBER – YOURS OBJECTIVES MUST BE S.M.A.R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Mission statement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55280" y="132840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…</a:t>
            </a:r>
            <a:r>
              <a:rPr b="0" lang="en-GB" sz="4000" spc="-1" strike="noStrike">
                <a:solidFill>
                  <a:srgbClr val="404040"/>
                </a:solidFill>
                <a:latin typeface="Trebuchet MS"/>
              </a:rPr>
              <a:t>by reading a mission statement you can usually tell what a business actually does!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Object 4" descr=""/>
          <p:cNvPicPr/>
          <p:nvPr/>
        </p:nvPicPr>
        <p:blipFill>
          <a:blip r:embed="rId1"/>
          <a:stretch/>
        </p:blipFill>
        <p:spPr>
          <a:xfrm>
            <a:off x="3635280" y="4149720"/>
            <a:ext cx="1758960" cy="25909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Microsoft’s Mission statemen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700280"/>
            <a:ext cx="6346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Bill Gates has said that Microsoft’s mission is….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“</a:t>
            </a: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taking the internet, combining it with great software and turning that into the most powerful tool of all time”.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Object 4" descr=""/>
          <p:cNvPicPr/>
          <p:nvPr/>
        </p:nvPicPr>
        <p:blipFill>
          <a:blip r:embed="rId1"/>
          <a:stretch/>
        </p:blipFill>
        <p:spPr>
          <a:xfrm>
            <a:off x="7772400" y="5029200"/>
            <a:ext cx="982800" cy="1447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54440" y="260280"/>
            <a:ext cx="37368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Mission statement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404040"/>
                </a:solidFill>
                <a:latin typeface="Trebuchet MS"/>
              </a:rPr>
              <a:t>You should be able to tell that Microsoft is involved with the internet, computers and software development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Object 5" descr=""/>
          <p:cNvPicPr/>
          <p:nvPr/>
        </p:nvPicPr>
        <p:blipFill>
          <a:blip r:embed="rId1"/>
          <a:stretch/>
        </p:blipFill>
        <p:spPr>
          <a:xfrm>
            <a:off x="5724360" y="4292640"/>
            <a:ext cx="3429000" cy="22478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British Airway’s Mission statemen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404040"/>
                </a:solidFill>
                <a:latin typeface="Trebuchet MS"/>
              </a:rPr>
              <a:t>…</a:t>
            </a:r>
            <a:r>
              <a:rPr b="0" lang="en-GB" sz="4400" spc="-1" strike="noStrike">
                <a:solidFill>
                  <a:srgbClr val="404040"/>
                </a:solidFill>
                <a:latin typeface="Trebuchet MS"/>
              </a:rPr>
              <a:t>is “To be the undisputed leader in world travel”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rcRect l="0" t="13097" r="0" b="26867"/>
          <a:stretch/>
        </p:blipFill>
        <p:spPr>
          <a:xfrm>
            <a:off x="1547640" y="4437000"/>
            <a:ext cx="5002560" cy="2065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British Airway’s Mission statemen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404040"/>
                </a:solidFill>
                <a:latin typeface="Trebuchet MS"/>
              </a:rPr>
              <a:t>...from this you should know that British Airways operates in the travel market.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Object 6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20040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British Airway’s Mission statemen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42920" y="1981080"/>
            <a:ext cx="3810240" cy="411480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rebuchet MS"/>
              </a:rPr>
              <a:t>…</a:t>
            </a:r>
            <a:r>
              <a:rPr b="0" lang="en-GB" sz="2800" spc="-1" strike="noStrike">
                <a:solidFill>
                  <a:srgbClr val="404040"/>
                </a:solidFill>
                <a:latin typeface="Trebuchet MS"/>
              </a:rPr>
              <a:t>but it i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GB" sz="1800" spc="-1" strike="noStrike">
                <a:solidFill>
                  <a:srgbClr val="404040"/>
                </a:solidFill>
                <a:latin typeface="Trebuchet MS"/>
              </a:rPr>
              <a:t>not very cle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GB" sz="2800" spc="-1" strike="noStrike">
                <a:solidFill>
                  <a:srgbClr val="404040"/>
                </a:solidFill>
                <a:latin typeface="Trebuchet MS"/>
              </a:rPr>
              <a:t>about which type of travel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rebuchet MS"/>
              </a:rPr>
              <a:t>(except for the fact there is the word ‘Airways’ in the Company name!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Object 6" descr=""/>
          <p:cNvPicPr/>
          <p:nvPr/>
        </p:nvPicPr>
        <p:blipFill>
          <a:blip r:embed="rId1"/>
          <a:stretch/>
        </p:blipFill>
        <p:spPr>
          <a:xfrm>
            <a:off x="6226200" y="49320"/>
            <a:ext cx="2895480" cy="1931760"/>
          </a:xfrm>
          <a:prstGeom prst="rect">
            <a:avLst/>
          </a:prstGeom>
          <a:ln w="0">
            <a:noFill/>
          </a:ln>
        </p:spPr>
      </p:pic>
      <p:pic>
        <p:nvPicPr>
          <p:cNvPr id="233" name="Object 7" descr=""/>
          <p:cNvPicPr/>
          <p:nvPr/>
        </p:nvPicPr>
        <p:blipFill>
          <a:blip r:embed="rId2"/>
          <a:stretch/>
        </p:blipFill>
        <p:spPr>
          <a:xfrm>
            <a:off x="7164360" y="2070000"/>
            <a:ext cx="1182600" cy="2710080"/>
          </a:xfrm>
          <a:prstGeom prst="rect">
            <a:avLst/>
          </a:prstGeom>
          <a:ln w="0">
            <a:noFill/>
          </a:ln>
        </p:spPr>
      </p:pic>
      <p:pic>
        <p:nvPicPr>
          <p:cNvPr id="234" name="Object 8" descr=""/>
          <p:cNvPicPr/>
          <p:nvPr/>
        </p:nvPicPr>
        <p:blipFill>
          <a:blip r:embed="rId3"/>
          <a:stretch/>
        </p:blipFill>
        <p:spPr>
          <a:xfrm>
            <a:off x="6226200" y="4869000"/>
            <a:ext cx="2895480" cy="190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75564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100" spc="-1" strike="noStrike">
                <a:solidFill>
                  <a:srgbClr val="7f7f7f"/>
                </a:solidFill>
                <a:latin typeface="Trebuchet MS"/>
              </a:rPr>
              <a:t>…</a:t>
            </a:r>
            <a:r>
              <a:rPr b="0" lang="en-GB" sz="4100" spc="-1" strike="noStrike">
                <a:solidFill>
                  <a:srgbClr val="7f7f7f"/>
                </a:solidFill>
                <a:latin typeface="Trebuchet MS"/>
              </a:rPr>
              <a:t>it is one thing to state a mission or a purpose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100" spc="-1" strike="noStrike" u="sng">
                <a:solidFill>
                  <a:srgbClr val="7f7f7f"/>
                </a:solidFill>
                <a:uFillTx/>
                <a:latin typeface="Trebuchet MS"/>
              </a:rPr>
              <a:t>but</a:t>
            </a:r>
            <a:r>
              <a:rPr b="0" lang="en-GB" sz="4100" spc="-1" strike="noStrike">
                <a:solidFill>
                  <a:srgbClr val="7f7f7f"/>
                </a:solidFill>
                <a:latin typeface="Trebuchet MS"/>
              </a:rPr>
              <a:t> another to achieve it.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Object 4" descr=""/>
          <p:cNvPicPr/>
          <p:nvPr/>
        </p:nvPicPr>
        <p:blipFill>
          <a:blip r:embed="rId1"/>
          <a:stretch/>
        </p:blipFill>
        <p:spPr>
          <a:xfrm>
            <a:off x="2843280" y="3933720"/>
            <a:ext cx="2514600" cy="2600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1341000"/>
            <a:ext cx="7340400" cy="15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5fcbef"/>
                </a:solidFill>
                <a:latin typeface="Trebuchet MS"/>
              </a:rPr>
              <a:t>To achieve its purpose, a business must have….</a:t>
            </a:r>
            <a:endParaRPr b="0" lang="en-US" sz="4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10920" y="3284280"/>
            <a:ext cx="6476760" cy="297180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700" spc="-1" strike="noStrike">
                <a:solidFill>
                  <a:srgbClr val="7f7f7f"/>
                </a:solidFill>
                <a:latin typeface="Trebuchet MS"/>
              </a:rPr>
              <a:t>Aims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Trebuchet MS"/>
              </a:rPr>
              <a:t>the goals the business wants to achiev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700" spc="-1" strike="noStrike">
                <a:solidFill>
                  <a:srgbClr val="7f7f7f"/>
                </a:solidFill>
                <a:latin typeface="Trebuchet MS"/>
              </a:rPr>
              <a:t>Objectives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Trebuchet MS"/>
              </a:rPr>
              <a:t>practical steps to achieve the goal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Trebuchet MS"/>
              </a:rPr>
              <a:t>- usually quantified (measurable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over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10:31:35Z</dcterms:created>
  <dc:creator>Research Machines plc</dc:creator>
  <dc:description/>
  <dc:language>en-US</dc:language>
  <cp:lastModifiedBy> </cp:lastModifiedBy>
  <dcterms:modified xsi:type="dcterms:W3CDTF">2015-08-27T12:26:21Z</dcterms:modified>
  <cp:revision>9</cp:revision>
  <dc:subject/>
  <dc:title>The Aims and Objectives of Businesses</dc:title>
</cp:coreProperties>
</file>